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DAB-E530-4FDD-9531-00CE2858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360-1DE0-4691-8110-C5EACAD4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7FD-4CAE-4EAC-A8B9-0C9B5FF5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157-C304-4810-84E8-F918FA90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3CE-072C-4292-B801-6941B15F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74E-3346-4F52-9AE9-5BF07B05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ADC-742B-44AE-8A83-B6384709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A80-EF59-4910-8063-83B1CD51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D95-F86C-4692-9DB3-DD6660CD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610-7610-483D-BBD7-6E9F9BC2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50A-004F-4B32-B3FA-469E103B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99F-3399-450D-B5B3-C5DAE20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9266-61CF-4A91-8B0E-8CD78291B7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280" y="146160"/>
            <a:ext cx="90727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81080" y="44280"/>
            <a:ext cx="9506160" cy="67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44280"/>
            <a:ext cx="941544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3:17:49Z</dcterms:created>
  <dc:creator>Admin</dc:creator>
  <dc:description/>
  <dc:language>en-US</dc:language>
  <cp:lastModifiedBy>Admin</cp:lastModifiedBy>
  <dcterms:modified xsi:type="dcterms:W3CDTF">2007-10-01T13:18:57Z</dcterms:modified>
  <cp:revision>1</cp:revision>
  <dc:subject/>
  <dc:title>Diapositiva 1</dc:title>
</cp:coreProperties>
</file>