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A36-8A40-4DA0-94ED-9808D3A9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948-847D-4F12-98F3-807FCFC5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3A6-C083-42CF-99D9-55AE35B5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428-7647-4F0F-9FC4-DDBE28C1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0F3-FB2F-4D9E-A659-751776CF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A98-9A16-4128-BEF4-74F1007B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B67-548F-4AD8-B135-AD9B4671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7DB-6FFD-4627-84C8-729020FA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40C-1114-41FA-93F0-B5F65402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056-FA8C-4236-9782-12FA6576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514-948B-45CC-8681-A1D85913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336-7832-4F9A-8E02-0C4E8FC4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8405-D354-47C4-91B6-3DE613BDC5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280" y="146160"/>
            <a:ext cx="90727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81080" y="44280"/>
            <a:ext cx="9506160" cy="67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44280"/>
            <a:ext cx="941544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3:17:49Z</dcterms:created>
  <dc:creator>Admin</dc:creator>
  <dc:description/>
  <dc:language>en-US</dc:language>
  <cp:lastModifiedBy>Admin</cp:lastModifiedBy>
  <dcterms:modified xsi:type="dcterms:W3CDTF">2007-10-01T13:18:57Z</dcterms:modified>
  <cp:revision>1</cp:revision>
  <dc:subject/>
  <dc:title>Diapositiva 1</dc:title>
</cp:coreProperties>
</file>